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9C7C-D6DF-4560-9733-769055168F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7CF-18D3-4076-AF2F-A85CA5287370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1CF4-4D53-4747-AF78-5A8120785EF7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7ABF-A400-43B1-BB38-43F2A7D19B8E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1B99-744D-4D02-959F-8AED255F0623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C2B-25EA-4874-981E-49E3F6EE4B73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8A9-6D96-4465-8B30-43A621C4BBF0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E3E-4490-4812-94CF-0A19F9D53BC9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58E5-BE23-4F0F-AD53-E8A27A0B8941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F47-36A6-4ACB-8913-3B0A27B23469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B00-0EEB-47B1-B48E-04BBEEB606E2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4ED-9829-41C1-A19D-6E8B9BDBE962}" type="slidenum">
              <a:rPr b="0" lang="en-US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A73-030E-449D-B8C2-BE68FC17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921-6492-4A37-A41A-C87A08D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751-2EE7-4853-9964-D0460BC7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732-9096-46AC-942C-370256FA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5755-FEE4-4404-8C7F-6B50EAC2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1E0-C18D-47FD-8778-79F2BD3F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84EA-2F64-458A-8F62-2E8B4157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73EE-AC12-4C52-BAB8-A2CF5E01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A04-80C2-43DC-87DC-0E1ACF0C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CD25-BD8E-499F-B403-9EAD121A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28F0-1115-447D-A110-C56B0C7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5EC-D9B5-4457-982C-53F93F33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5B2-D528-4AC0-A228-D3AAFB2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16F-B8F8-41F0-AED7-2CA16778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73DE-89B0-42FD-92C8-A34D1BB4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E86E-2C79-4311-AD94-FA804B77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FA89-66BD-4C63-A834-EBDE2606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518-7D5F-4247-A22C-5B017A0E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4DA-F1BF-4456-AB3E-C29F474F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43B-9E4E-46BB-8A59-9B966CD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5AD-985E-4B40-9255-54787A4B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F24-7218-40AE-84D1-1D9B8DBF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D57-856C-45AB-B0D5-97FC74E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02C-85AB-4948-9449-912AFF5D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470-2770-4866-9E18-31E59855414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2958-E21E-4186-9592-CA2F847FCB1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2209680" y="2133720"/>
            <a:ext cx="493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Simplifying 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Rational 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99"/>
                </a:solidFill>
                <a:latin typeface="Times New Roman"/>
              </a:rPr>
              <a:t>Expressions</a:t>
            </a:r>
            <a:endParaRPr b="0" lang="en-US" sz="7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2649600" y="550800"/>
          <a:ext cx="354168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0" y="550800"/>
                    <a:ext cx="35416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762120" y="20574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2384280" y="3276720"/>
          <a:ext cx="334008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4280" y="3276720"/>
                    <a:ext cx="3340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990720" y="4572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imes New Roman"/>
              </a:rPr>
              <a:t>There is no common facto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, but you can reduce. You </a:t>
            </a: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CANNOT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 cancel the x’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5972040" y="3352680"/>
          <a:ext cx="168768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72040" y="3352680"/>
                    <a:ext cx="168768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752480" y="2133720"/>
          <a:ext cx="160020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13372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5638680" y="4038480"/>
          <a:ext cx="1600200" cy="11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403848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1619280" y="4038480"/>
          <a:ext cx="156204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4038480"/>
                    <a:ext cx="15620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8"/>
          <p:cNvGraphicFramePr/>
          <p:nvPr/>
        </p:nvGraphicFramePr>
        <p:xfrm>
          <a:off x="5638680" y="2057400"/>
          <a:ext cx="1600200" cy="118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2057400"/>
                    <a:ext cx="16002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2743200" y="609480"/>
          <a:ext cx="3352680" cy="11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609480"/>
                    <a:ext cx="3352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2666880" y="3505320"/>
          <a:ext cx="390384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505320"/>
                    <a:ext cx="390384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8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80" name="Object 9"/>
          <p:cNvGraphicFramePr/>
          <p:nvPr/>
        </p:nvGraphicFramePr>
        <p:xfrm>
          <a:off x="6705720" y="5105520"/>
          <a:ext cx="12189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105520"/>
                    <a:ext cx="12189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5"/>
          <p:cNvSpPr/>
          <p:nvPr/>
        </p:nvSpPr>
        <p:spPr>
          <a:xfrm>
            <a:off x="53352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Step 2:  Divide the numerator and denominator by the common factor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pSp>
        <p:nvGrpSpPr>
          <p:cNvPr id="183" name="Group 16"/>
          <p:cNvGrpSpPr/>
          <p:nvPr/>
        </p:nvGrpSpPr>
        <p:grpSpPr>
          <a:xfrm>
            <a:off x="2133720" y="2133720"/>
            <a:ext cx="4495680" cy="1668240"/>
            <a:chOff x="2133720" y="2133720"/>
            <a:chExt cx="4495680" cy="1668240"/>
          </a:xfrm>
        </p:grpSpPr>
        <p:grpSp>
          <p:nvGrpSpPr>
            <p:cNvPr id="184" name="Group 17"/>
            <p:cNvGrpSpPr/>
            <p:nvPr/>
          </p:nvGrpSpPr>
          <p:grpSpPr>
            <a:xfrm>
              <a:off x="2133720" y="2394360"/>
              <a:ext cx="4495680" cy="890280"/>
              <a:chOff x="2133720" y="2394360"/>
              <a:chExt cx="4495680" cy="890280"/>
            </a:xfrm>
          </p:grpSpPr>
          <p:grpSp>
            <p:nvGrpSpPr>
              <p:cNvPr id="185" name="Group 18"/>
              <p:cNvGrpSpPr/>
              <p:nvPr/>
            </p:nvGrpSpPr>
            <p:grpSpPr>
              <a:xfrm>
                <a:off x="2133720" y="2394360"/>
                <a:ext cx="4495680" cy="890280"/>
                <a:chOff x="2133720" y="2394360"/>
                <a:chExt cx="4495680" cy="890280"/>
              </a:xfrm>
            </p:grpSpPr>
            <p:graphicFrame>
              <p:nvGraphicFramePr>
                <p:cNvPr id="186" name="Object 19"/>
                <p:cNvGraphicFramePr/>
                <p:nvPr/>
              </p:nvGraphicFramePr>
              <p:xfrm>
                <a:off x="2133720" y="2394360"/>
                <a:ext cx="2515680" cy="89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87" name="Object 19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133720" y="2394360"/>
                          <a:ext cx="2515680" cy="89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88" name="Object 20"/>
                <p:cNvGraphicFramePr/>
                <p:nvPr/>
              </p:nvGraphicFramePr>
              <p:xfrm>
                <a:off x="4412880" y="2394360"/>
                <a:ext cx="2216520" cy="8902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89" name="Object 20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412880" y="2394360"/>
                          <a:ext cx="2216520" cy="89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90" name="Line 21"/>
              <p:cNvSpPr/>
              <p:nvPr/>
            </p:nvSpPr>
            <p:spPr>
              <a:xfrm flipH="1">
                <a:off x="5333040" y="2437560"/>
                <a:ext cx="832680" cy="304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  <p:sp>
            <p:nvSpPr>
              <p:cNvPr id="191" name="Line 22"/>
              <p:cNvSpPr/>
              <p:nvPr/>
            </p:nvSpPr>
            <p:spPr>
              <a:xfrm flipH="1">
                <a:off x="5727600" y="2872440"/>
                <a:ext cx="788760" cy="304200"/>
              </a:xfrm>
              <a:prstGeom prst="line">
                <a:avLst/>
              </a:prstGeom>
              <a:ln w="284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ahoma"/>
                </a:endParaRPr>
              </a:p>
            </p:txBody>
          </p:sp>
        </p:grpSp>
        <p:sp>
          <p:nvSpPr>
            <p:cNvPr id="192" name="Text Box 23"/>
            <p:cNvSpPr/>
            <p:nvPr/>
          </p:nvSpPr>
          <p:spPr>
            <a:xfrm>
              <a:off x="5640480" y="2133720"/>
              <a:ext cx="26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6699"/>
                </a:solidFill>
                <a:latin typeface="Tahoma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035040" y="3220560"/>
              <a:ext cx="17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66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336699"/>
                </a:solidFill>
                <a:latin typeface="Tahoma"/>
              </a:endParaRPr>
            </a:p>
          </p:txBody>
        </p:sp>
      </p:grpSp>
      <p:sp>
        <p:nvSpPr>
          <p:cNvPr id="194" name="Text Box 25"/>
          <p:cNvSpPr/>
          <p:nvPr/>
        </p:nvSpPr>
        <p:spPr>
          <a:xfrm>
            <a:off x="936720" y="367992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Step 3: Multiply to get your answer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95" name="Object 26"/>
          <p:cNvGraphicFramePr/>
          <p:nvPr/>
        </p:nvGraphicFramePr>
        <p:xfrm>
          <a:off x="2971800" y="4343400"/>
          <a:ext cx="3054240" cy="10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343400"/>
                    <a:ext cx="30542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838080" y="22096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Looking at the answer from the previous example, what value of </a:t>
            </a:r>
            <a:r>
              <a:rPr b="0" i="1" lang="en-US" sz="3600" spc="-1" strike="noStrike">
                <a:solidFill>
                  <a:srgbClr val="336699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ould make the denominator 0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67080" y="3429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Times New Roman"/>
              </a:rPr>
              <a:t>x= -1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38080" y="44956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The expression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undefined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hen the values make the denominator equal to 0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20400" y="914400"/>
            <a:ext cx="73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Don’t forget about the denominator!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838080" y="2133720"/>
          <a:ext cx="744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4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3"/>
          <p:cNvSpPr/>
          <p:nvPr/>
        </p:nvSpPr>
        <p:spPr>
          <a:xfrm>
            <a:off x="2209680" y="220968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How do I find the values that make an expression undefined?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914400" y="4419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Completely factor the original denominator to find the </a:t>
            </a:r>
            <a:r>
              <a:rPr b="1" lang="en-US" sz="3600" spc="-1" strike="noStrike">
                <a:solidFill>
                  <a:srgbClr val="336699"/>
                </a:solidFill>
                <a:latin typeface="Times New Roman"/>
              </a:rPr>
              <a:t>restrictions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818800" y="762120"/>
            <a:ext cx="28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Restrictions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3"/>
          <p:cNvGraphicFramePr/>
          <p:nvPr/>
        </p:nvGraphicFramePr>
        <p:xfrm>
          <a:off x="2403360" y="628560"/>
          <a:ext cx="403236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628560"/>
                    <a:ext cx="403236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4"/>
          <p:cNvGraphicFramePr/>
          <p:nvPr/>
        </p:nvGraphicFramePr>
        <p:xfrm>
          <a:off x="1598760" y="2773440"/>
          <a:ext cx="602136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8760" y="2773440"/>
                    <a:ext cx="6021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5"/>
          <p:cNvSpPr/>
          <p:nvPr/>
        </p:nvSpPr>
        <p:spPr>
          <a:xfrm>
            <a:off x="1143000" y="3962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The expression is 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Times New Roman"/>
              </a:rPr>
              <a:t>undefined</a:t>
            </a: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 when: a=  2 and -2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676520" y="22096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Factor the denominator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60948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3200400" y="609480"/>
          <a:ext cx="175248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17524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787320" y="2077920"/>
          <a:ext cx="4675320" cy="13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2077920"/>
                    <a:ext cx="46753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5"/>
          <p:cNvSpPr/>
          <p:nvPr/>
        </p:nvSpPr>
        <p:spPr>
          <a:xfrm>
            <a:off x="5257800" y="6858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Times New Roman"/>
              </a:rPr>
              <a:t>Factor out the GCF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18" name="Object 7"/>
          <p:cNvGraphicFramePr/>
          <p:nvPr/>
        </p:nvGraphicFramePr>
        <p:xfrm>
          <a:off x="5638680" y="2133720"/>
          <a:ext cx="2089440" cy="22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133720"/>
                    <a:ext cx="208944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8"/>
          <p:cNvGraphicFramePr/>
          <p:nvPr/>
        </p:nvGraphicFramePr>
        <p:xfrm>
          <a:off x="1143000" y="3505320"/>
          <a:ext cx="2971800" cy="43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3505320"/>
                    <a:ext cx="29718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0"/>
          <p:cNvGraphicFramePr/>
          <p:nvPr/>
        </p:nvGraphicFramePr>
        <p:xfrm>
          <a:off x="4724280" y="3352680"/>
          <a:ext cx="2057400" cy="105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352680"/>
                    <a:ext cx="205740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11"/>
          <p:cNvSpPr/>
          <p:nvPr/>
        </p:nvSpPr>
        <p:spPr>
          <a:xfrm flipV="1">
            <a:off x="2438280" y="4495320"/>
            <a:ext cx="914400" cy="381240"/>
          </a:xfrm>
          <a:prstGeom prst="line">
            <a:avLst/>
          </a:prstGeom>
          <a:ln w="381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 flipV="1">
            <a:off x="2133720" y="5029200"/>
            <a:ext cx="914400" cy="380880"/>
          </a:xfrm>
          <a:prstGeom prst="line">
            <a:avLst/>
          </a:prstGeom>
          <a:ln w="381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5909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c8d1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590920" y="54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c8d1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28" name="Object 16"/>
          <p:cNvGraphicFramePr/>
          <p:nvPr/>
        </p:nvGraphicFramePr>
        <p:xfrm>
          <a:off x="1295280" y="4343400"/>
          <a:ext cx="236232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343400"/>
                    <a:ext cx="23623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7"/>
          <p:cNvGraphicFramePr/>
          <p:nvPr/>
        </p:nvGraphicFramePr>
        <p:xfrm>
          <a:off x="3886200" y="4419720"/>
          <a:ext cx="1189080" cy="105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4419720"/>
                    <a:ext cx="11890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9"/>
          <p:cNvGraphicFramePr/>
          <p:nvPr/>
        </p:nvGraphicFramePr>
        <p:xfrm>
          <a:off x="5334120" y="4419720"/>
          <a:ext cx="89208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4120" y="4419720"/>
                    <a:ext cx="8920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Line 20"/>
          <p:cNvSpPr/>
          <p:nvPr/>
        </p:nvSpPr>
        <p:spPr>
          <a:xfrm flipV="1">
            <a:off x="4267080" y="4343040"/>
            <a:ext cx="533520" cy="609480"/>
          </a:xfrm>
          <a:prstGeom prst="line">
            <a:avLst/>
          </a:prstGeom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5" name="Line 21"/>
          <p:cNvSpPr/>
          <p:nvPr/>
        </p:nvSpPr>
        <p:spPr>
          <a:xfrm flipV="1">
            <a:off x="4114800" y="5028840"/>
            <a:ext cx="533520" cy="609480"/>
          </a:xfrm>
          <a:prstGeom prst="line">
            <a:avLst/>
          </a:prstGeom>
          <a:ln w="9360">
            <a:solidFill>
              <a:srgbClr val="33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36" name="Object 22"/>
          <p:cNvGraphicFramePr/>
          <p:nvPr/>
        </p:nvGraphicFramePr>
        <p:xfrm>
          <a:off x="4419720" y="5334120"/>
          <a:ext cx="195120" cy="361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5334120"/>
                    <a:ext cx="1951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3"/>
          <p:cNvGraphicFramePr/>
          <p:nvPr/>
        </p:nvGraphicFramePr>
        <p:xfrm>
          <a:off x="4191120" y="4191120"/>
          <a:ext cx="34740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9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4191120"/>
                    <a:ext cx="347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Object 2"/>
          <p:cNvGraphicFramePr/>
          <p:nvPr/>
        </p:nvGraphicFramePr>
        <p:xfrm>
          <a:off x="762120" y="990720"/>
          <a:ext cx="7772400" cy="54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7724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"/>
          <p:cNvGraphicFramePr/>
          <p:nvPr/>
        </p:nvGraphicFramePr>
        <p:xfrm>
          <a:off x="1905120" y="2286000"/>
          <a:ext cx="518148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286000"/>
                    <a:ext cx="518148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5"/>
          <p:cNvGraphicFramePr/>
          <p:nvPr/>
        </p:nvGraphicFramePr>
        <p:xfrm>
          <a:off x="1219320" y="3276720"/>
          <a:ext cx="661644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164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6"/>
          <p:cNvGraphicFramePr/>
          <p:nvPr/>
        </p:nvGraphicFramePr>
        <p:xfrm>
          <a:off x="2057400" y="4267080"/>
          <a:ext cx="419724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267080"/>
                    <a:ext cx="41972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685800" y="7621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Some to try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762120" y="2133720"/>
          <a:ext cx="3124080" cy="22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12408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4"/>
          <p:cNvSpPr/>
          <p:nvPr/>
        </p:nvSpPr>
        <p:spPr>
          <a:xfrm>
            <a:off x="838080" y="4724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Also find the values that make each expression undefined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990720" y="7621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What is a rational expression?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14400" y="213372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A rational number can be expressed as a quotient of two integers (a </a:t>
            </a:r>
            <a:r>
              <a:rPr b="0" lang="en-US" sz="4400" spc="-1" strike="noStrike" u="sng">
                <a:solidFill>
                  <a:srgbClr val="336699"/>
                </a:solidFill>
                <a:uFillTx/>
                <a:latin typeface="Times New Roman"/>
              </a:rPr>
              <a:t>fraction</a:t>
            </a: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).  A rational expression can be expressed as a quotient of two polynomials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447920" y="42670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Remember, in a fraction the denominator cannot = 0.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447920" y="2362320"/>
          <a:ext cx="66038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603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10"/>
          <p:cNvSpPr/>
          <p:nvPr/>
        </p:nvSpPr>
        <p:spPr>
          <a:xfrm>
            <a:off x="740880" y="746280"/>
            <a:ext cx="775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Examples of rational expressions: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205000" y="70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implify: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1: Can you reduce the number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24 and 36 can both be reduced by 12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2: Can you cancel any of the letters?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you can cancel one a on top and bottom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5715000" y="609480"/>
          <a:ext cx="93816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609480"/>
                    <a:ext cx="93816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3962520" y="2743200"/>
          <a:ext cx="7426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743200"/>
                    <a:ext cx="742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3962520" y="4572000"/>
          <a:ext cx="7426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4572000"/>
                    <a:ext cx="742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05000" y="70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335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implify: </a:t>
            </a:r>
            <a:endParaRPr b="0" lang="en-U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1: Can you reduce the numbers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-15 and 35 can both be reduced by 5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ep 2: Can you cancel any of the letters?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Yes, you can cancel 2 a’s and 2 b’s.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5505480" y="609480"/>
          <a:ext cx="135900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5480" y="609480"/>
                    <a:ext cx="1359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8"/>
          <p:cNvGraphicFramePr/>
          <p:nvPr/>
        </p:nvGraphicFramePr>
        <p:xfrm>
          <a:off x="3768840" y="2743200"/>
          <a:ext cx="11300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68840" y="2743200"/>
                    <a:ext cx="1130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3865680" y="4572000"/>
          <a:ext cx="93636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5680" y="4572000"/>
                    <a:ext cx="9363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600200" y="2057400"/>
          <a:ext cx="9907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057400"/>
                    <a:ext cx="9907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"/>
          <p:cNvGraphicFramePr/>
          <p:nvPr/>
        </p:nvGraphicFramePr>
        <p:xfrm>
          <a:off x="1601640" y="3708360"/>
          <a:ext cx="835200" cy="8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1640" y="3708360"/>
                    <a:ext cx="8352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6"/>
          <p:cNvGraphicFramePr/>
          <p:nvPr/>
        </p:nvGraphicFramePr>
        <p:xfrm>
          <a:off x="4821120" y="3630600"/>
          <a:ext cx="1179720" cy="9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3630600"/>
                    <a:ext cx="1179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7"/>
          <p:cNvGraphicFramePr/>
          <p:nvPr/>
        </p:nvGraphicFramePr>
        <p:xfrm>
          <a:off x="4618080" y="2031840"/>
          <a:ext cx="1355760" cy="8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080" y="2031840"/>
                    <a:ext cx="13557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2668680" y="550800"/>
          <a:ext cx="350352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550800"/>
                    <a:ext cx="3503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65320" y="3505320"/>
          <a:ext cx="330516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65320" y="3505320"/>
                    <a:ext cx="330516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6632640" y="5105520"/>
          <a:ext cx="136512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2640" y="5105520"/>
                    <a:ext cx="13651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7"/>
          <p:cNvGraphicFramePr/>
          <p:nvPr/>
        </p:nvGraphicFramePr>
        <p:xfrm>
          <a:off x="6324480" y="3505320"/>
          <a:ext cx="77328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3505320"/>
                    <a:ext cx="7732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2668680" y="550800"/>
          <a:ext cx="350352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8680" y="550800"/>
                    <a:ext cx="350352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3"/>
          <p:cNvSpPr/>
          <p:nvPr/>
        </p:nvSpPr>
        <p:spPr>
          <a:xfrm>
            <a:off x="914400" y="22096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982960" y="3505320"/>
          <a:ext cx="327024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2960" y="3505320"/>
                    <a:ext cx="327024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5"/>
          <p:cNvSpPr/>
          <p:nvPr/>
        </p:nvSpPr>
        <p:spPr>
          <a:xfrm>
            <a:off x="990720" y="510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imes New Roman"/>
              </a:rPr>
              <a:t>What is the common factor?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6656400" y="5105520"/>
          <a:ext cx="131616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6400" y="5105520"/>
                    <a:ext cx="131616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7"/>
          <p:cNvGraphicFramePr/>
          <p:nvPr/>
        </p:nvGraphicFramePr>
        <p:xfrm>
          <a:off x="6324480" y="3505320"/>
          <a:ext cx="1476360" cy="10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3505320"/>
                    <a:ext cx="14763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2"/>
          <p:cNvGraphicFramePr/>
          <p:nvPr/>
        </p:nvGraphicFramePr>
        <p:xfrm>
          <a:off x="2556000" y="550800"/>
          <a:ext cx="373068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550800"/>
                    <a:ext cx="373068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3"/>
          <p:cNvSpPr/>
          <p:nvPr/>
        </p:nvSpPr>
        <p:spPr>
          <a:xfrm>
            <a:off x="762120" y="20574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Step 1: Factor the numerator and the denominator completely looking for common facto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209680" y="3276720"/>
          <a:ext cx="3691080" cy="11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3276720"/>
                    <a:ext cx="369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5"/>
          <p:cNvSpPr/>
          <p:nvPr/>
        </p:nvSpPr>
        <p:spPr>
          <a:xfrm>
            <a:off x="990720" y="45720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imes New Roman"/>
              </a:rPr>
              <a:t>There is no common factor</a:t>
            </a: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, but you can reduce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53" name="Object 7"/>
          <p:cNvGraphicFramePr/>
          <p:nvPr/>
        </p:nvGraphicFramePr>
        <p:xfrm>
          <a:off x="5867280" y="3352680"/>
          <a:ext cx="1897200" cy="116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3352680"/>
                    <a:ext cx="1897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newsflash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8:30:45Z</dcterms:created>
  <dc:creator>HCPS</dc:creator>
  <dc:description/>
  <dc:language>en-US</dc:language>
  <cp:lastModifiedBy>test</cp:lastModifiedBy>
  <cp:lastPrinted>2009-01-21T14:14:06Z</cp:lastPrinted>
  <dcterms:modified xsi:type="dcterms:W3CDTF">2015-05-08T11:59:53Z</dcterms:modified>
  <cp:revision>63</cp:revision>
  <dc:subject/>
  <dc:title>No Slide Title</dc:title>
</cp:coreProperties>
</file>